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826-F461-4C64-881E-22E243EF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5DF-E9F5-4CDC-922B-81EF083C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03E-0A21-45C0-90B0-2234A3A3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754-6958-4A14-949B-21F385D6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D97-ECE8-4E10-BCEC-38BC7827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A46-B285-4294-980B-047AA069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32D-7F8F-454D-821C-4B16C257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C04-FB59-42D0-AB3D-BDAD95E9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DB8-D352-438F-8080-A1DC99D9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E8C-CD10-405D-93DA-71DEB0E4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D99-336F-4415-A665-F3B56F26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BE6-2E67-4AB8-811D-E72F82FC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AE8C-CAB0-423C-9178-FC829B86F3A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4:45:49Z</dcterms:created>
  <dc:creator>Grupo Editorial</dc:creator>
  <dc:description/>
  <dc:language>en-US</dc:language>
  <cp:lastModifiedBy>TORRES</cp:lastModifiedBy>
  <dcterms:modified xsi:type="dcterms:W3CDTF">2010-12-18T22:25:15Z</dcterms:modified>
  <cp:revision>1</cp:revision>
  <dc:subject/>
  <dc:title>Sin título de diapositiva</dc:title>
</cp:coreProperties>
</file>